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EC46-D8C8-426A-9D03-AFCCACD6C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A888-2B02-4413-BB6F-185C2BB83A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727F-D1D6-4BF3-BDB4-1419EA0809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7D56-098E-48C9-B3B0-AC1C7364C3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2097-AAB7-472C-997E-7E40C962A6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4E7B-DB72-428D-8928-379C33F7DB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8E33-6530-4F4E-A94E-501F6D462D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8109-3B44-4EEB-B195-1AB6FF1ED6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19BA-F5F1-4375-8C3E-5C89434359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1DE0-9CEA-4657-A422-549EA4E787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67F7-ED0B-4F75-A6FC-ACA0450441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0C86-8773-4BE5-A311-6F3ECA13FE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C415-D4D1-43A0-872E-BC83E88FBA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6DFC3-4BED-4CDB-B34F-A9A6128028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F768-BEED-4978-93CA-8F421FFB5D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69BEE-3A19-45E4-B1BE-546CEE53D8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07C3-2EA0-4A80-855C-49B14CE5EF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2054-280B-42DC-92CE-24BBACEE60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4760-85E7-4617-BA7F-35A5EC2D30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F4FF-FAA0-4585-B274-687B622C7C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2294-441C-4B67-8F31-9CAFBA3255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5F872-4171-4DD8-9ADB-5749C33E9D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B0F5-ED17-4AA0-BD34-BC3F4F1AD3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4A5E-4546-4CDA-A23E-E7210C400E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024D-F907-4C26-AB63-68829C83A5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490C-77C8-4805-A15B-936A7CCA9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E430-4570-454B-AB95-46E44DD6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8A9-133D-40F9-AB62-1E8EA658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69B-E0A2-4F9B-8426-6696AC44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34060-96CC-497C-B2E6-3F44AFBBF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DF14E-20A0-48C7-A2C7-C24367AE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5EF03-AEEC-409F-98C4-A691F122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4A99E-3B48-4F7F-965F-47694F29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2FC69-1A1F-44F8-95C2-75914153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7CCF6-90AD-4864-BC87-BE2B0D00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4E598-A9CF-4D97-97AD-97ED1947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10A-8057-4A45-8CAA-58E7D258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6A23A0-BBE7-495C-9C77-1AD37621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AFE71-AE26-4BEF-8CAD-101ED4B4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1B7654-8C1F-4C56-BA1F-82A93EB5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A6B96-5AB9-4BA3-83C2-657E3A50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CDAAAF-A50E-4D97-A9DB-B37FF7E2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E9A9-B401-40FB-B74F-A6961511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EB8F-19DA-4097-A951-BCC041AF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8875-AEB5-431E-B2DE-2EED2FF5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765-AE4B-43B8-A964-D2EB75AC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EA3-1854-4A25-8FD5-A885D85E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4F9-20F1-4D55-BB68-C139F667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21F4-998C-4FA8-AB35-0AF4B329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07AB-5F60-48A0-893C-44D63C7EC5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4039-0BD4-48CB-82AA-603696D79E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cponline.org/journals/annals/15feb97/melanoma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rpansa.gov.au/images/nir/spectrum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pter 26:  Ozone Deplet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-360" y="1828440"/>
            <a:ext cx="2438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e Stud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c Skin Canc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melano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97240" y="1981080"/>
            <a:ext cx="6518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nthropogenic Ozone Destruc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light can break and release Cl and then it may rebind again, over and o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Cataly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lag effec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FCs are verrrrrrrry stabl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tropospheric si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light does not break it here! (transpar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n doesn’t phase it! (insolu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idation can’t touch it! (non-reactiv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re is ozone being lost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the Antarctic (big time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the Arctic, but less 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northern hemi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er southern hemi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re is there the most ozone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is made over the equator due to high intensity sun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t it is thinnest there and thickest at the p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mmmmmmmmmmm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tarctic Ozone Ho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ccurs during the spring in polar stratospheric clou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s from 15 – 80 % loss (over 80% depleted for 8 weeks in 199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of depletion is spreading out (from a million sq. miles in 1970 to 22 million sq. miles toda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ar wint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looses heat and s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dark 6 months ,so no incoming radiation to add new he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 is isolated from global circulation and circulates around po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called th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olar vorte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inter stratospheric clouds are essential for ozone destruc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emps. slowly drop, sulfuric acid freez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ds nitric acid to form around frozen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ype 1 stratospheric clou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temp rapidly drops further water condenses around Type 1 particles making them lar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are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Type 2 stratospheric clou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you can see th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both cloud types,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ied up as nitric acid, freezes o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se particles grow large enough to fall out of atm, removing most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clou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no chlorine (chlorine nitrate) sink in springtime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tarctic spr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light retu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s apart CFCs, freeing chlor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clouds so no chlorine s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s free to destroy oz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a07"/>
          <p:cNvPicPr/>
          <p:nvPr/>
        </p:nvPicPr>
        <p:blipFill>
          <a:blip r:embed="rId1"/>
          <a:stretch/>
        </p:blipFill>
        <p:spPr>
          <a:xfrm>
            <a:off x="4572000" y="1447920"/>
            <a:ext cx="1752480" cy="358128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7"/>
          <p:cNvSpPr/>
          <p:nvPr/>
        </p:nvSpPr>
        <p:spPr>
          <a:xfrm>
            <a:off x="6248520" y="2514600"/>
            <a:ext cx="2895480" cy="1371600"/>
          </a:xfrm>
          <a:prstGeom prst="wedgeEllipseCallout">
            <a:avLst>
              <a:gd name="adj1" fmla="val -59541"/>
              <a:gd name="adj2" fmla="val -5219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6994440" y="28591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spring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V Radia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Picture 6" descr="spectru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676520"/>
            <a:ext cx="8381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 Need super cold isolated air vorte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olar win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 Need PSCs (ozone destroy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ion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ppen on their surfa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NOx freeze and drop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 On the surfaces, inactive Cl and B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es convert into highly act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 When sunlight returns in spring ozo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s is very rapi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3e3ff"/>
                </a:solidFill>
                <a:uFillTx/>
                <a:latin typeface="Arial"/>
              </a:rPr>
              <a:t>Future of Ozone Deple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lions of metric tons of CFCs are in lower atm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y take as much as 50 years or so to get to stratosp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last 75 - 14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it will probably get worse before it gets better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3e3ff"/>
                </a:solidFill>
                <a:uFillTx/>
                <a:latin typeface="Arial"/>
              </a:rPr>
              <a:t>Ozone Depletion: Effec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reduction in phytoplankt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effect oceanic food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fish for human consump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also increase global warming (phytoplankton are an important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nk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 warming may affect our food crops negative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lth ef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in skin canc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mage ey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aken  immune system which may have a multitude of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treal Protocol in 19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46 countries have sign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 to reduce CFC 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industrial ones stopped by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line for developing countries is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na and India chose not to particip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ubstitu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F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CF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pane (cheap but potentially explosiv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85 billion dollar cost to replace old refrigerating equipment that cannot use alternative chemi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ther Idea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V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est wave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energe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eaks O2 into O and 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and O2 combine to form O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ongly absorbed in stratosphere by o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e reaches surface of Ea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radiation_i1"/>
          <p:cNvPicPr/>
          <p:nvPr/>
        </p:nvPicPr>
        <p:blipFill>
          <a:blip r:embed="rId1"/>
          <a:stretch/>
        </p:blipFill>
        <p:spPr>
          <a:xfrm>
            <a:off x="7086600" y="228600"/>
            <a:ext cx="1143000" cy="838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fig1-01"/>
          <p:cNvPicPr/>
          <p:nvPr/>
        </p:nvPicPr>
        <p:blipFill>
          <a:blip r:embed="rId2"/>
          <a:stretch/>
        </p:blipFill>
        <p:spPr>
          <a:xfrm>
            <a:off x="4495680" y="1447920"/>
            <a:ext cx="44960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UVB and UV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V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ly energe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cause cell da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ongly absorbed 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zone la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est wave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cause cell damage, penetrates into deeper layers of sk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zone does not absorb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hes surface of Earth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ozoneimg"/>
          <p:cNvPicPr/>
          <p:nvPr/>
        </p:nvPicPr>
        <p:blipFill>
          <a:blip r:embed="rId1"/>
          <a:stretch/>
        </p:blipFill>
        <p:spPr>
          <a:xfrm>
            <a:off x="228600" y="380880"/>
            <a:ext cx="8610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y is ozone being depleted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zone measured 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bson units ( D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 = 1 pp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measured in 1920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4419720" y="1523880"/>
            <a:ext cx="4267080" cy="20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FCs are the main culpr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nder molecul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n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5" descr="04b"/>
          <p:cNvPicPr/>
          <p:nvPr/>
        </p:nvPicPr>
        <p:blipFill>
          <a:blip r:embed="rId1"/>
          <a:stretch/>
        </p:blipFill>
        <p:spPr>
          <a:xfrm>
            <a:off x="1600200" y="838080"/>
            <a:ext cx="655308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6"/>
          <p:cNvSpPr/>
          <p:nvPr/>
        </p:nvSpPr>
        <p:spPr>
          <a:xfrm>
            <a:off x="0" y="685800"/>
            <a:ext cx="25146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FC hit by U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lorine splits 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ruthlessly attacks an innocent oz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mporarily forms chlorine monox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n up by a free O and the evil chlorine is free to destroy more ozone (up to 100,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04920" y="63244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ppens over and over and over again =  a catalytic chain reactio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9" descr="invader2"/>
          <p:cNvPicPr/>
          <p:nvPr/>
        </p:nvPicPr>
        <p:blipFill>
          <a:blip r:embed="rId1"/>
          <a:stretch/>
        </p:blipFill>
        <p:spPr>
          <a:xfrm>
            <a:off x="2514600" y="0"/>
            <a:ext cx="6324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atural Ozone Formation and Destruc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4:29:53Z</dcterms:created>
  <dc:creator>tosborne</dc:creator>
  <dc:description/>
  <dc:language>en-US</dc:language>
  <cp:lastModifiedBy>Teri Osborne</cp:lastModifiedBy>
  <dcterms:modified xsi:type="dcterms:W3CDTF">2011-03-21T01:22:21Z</dcterms:modified>
  <cp:revision>19</cp:revision>
  <dc:subject/>
  <dc:title>Ozone Depletion</dc:title>
</cp:coreProperties>
</file>